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1B0-2DD0-4FE3-AF39-80417CC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F21-A218-4616-AF4C-3620059A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343-D427-4DDB-85E7-0B69BFC9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2D6-FB14-43B5-8FF5-79F57BA7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984A-E7D3-4E3E-8574-8F628E5A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CFDE-46D3-4890-BD54-6FDFADB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5817-9793-477C-A2E4-C2062FD2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C69-0C00-49BD-8B89-1BA5450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E48-F480-47A4-9F15-2FD5066F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3523-B29A-4CA6-A3B1-F84AA8AF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ABB-DC72-4928-9687-8D08FB0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DB7-C1C3-454A-84E0-1BFACE77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728-ABCE-49CC-9CBE-055190DD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97F-C594-4CDC-93FB-853C55A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CA7-D190-43F7-8846-ED0CAB8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50C-5647-47AB-BAB6-5EF8E768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8AD4-6BD9-40E0-92FD-31C264F7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84D-A304-4233-BDBF-5395EA9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44-FD76-4D25-8788-5340328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61D-2F36-41CE-89A8-FF510F15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9A9-8F76-4827-80B7-C0751C6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D53-B299-457E-B9E9-D5D4AD4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49B-819E-4C5C-8A4F-59F8934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426-DB26-41F9-8812-08DC305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8F45-B53F-4094-9000-BCCB506E0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2AB7-AD52-4555-94D6-197A9D9F0E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757080" y="836280"/>
            <a:ext cx="67816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L’ ipert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285264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Che cos’ è un iper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Progettazione e realizzazione di              ipert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re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tenuti sono scomposti con la massima fle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ha un numero variabile di collegamenti in entrata e in u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a volte può apparire dispersiva, ma l’ipertesto risulta ricco e v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2752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 due COMPONENTI di un ipert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nodo: costituisce una unità di informazione autosufficiente e compiuta, e può corrispondere a meno di una pagina o a più p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link: viene attivato tramite mouse, ed è riconoscibile in quanto su di esso il cursore cambia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n breve, un buon ipertesto deve offrir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à d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eplicità di prec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cità di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Facciamo chiarezza su alcuni termini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testo: documento mono-mediale 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mediale: elaboratore in grado di gestire elementi testuali e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media: documento con elementi multimediali e non sequ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attivo: software che consente di ottenere risposte rap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ipertesto segue lo stesso processo del nostro pensiero: riflettiam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40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un’idea su un argomento ne nascono altre su altri argomenti alle quali si associano di nu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ostra mente formula idee parallelamente su fronti diversi, procedendo secondo un metodo di assoc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’ è un ipertest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crittura ipertestuale è una nuova forma espressiva e, in una certa misura, anche un nuovo modo di pensare il sapere, di trattare e rielaborare le informazioni, di organizzare la conoscenza. Esso è fornito di collegamenti che permettono di accedere ad altre parti del testo o ad altri documenti permettendo una consultazion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 ipertesto offr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o nuovo e libero di costruire il pens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sibilità di dare spazio alla propria fant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reazione di una rete di testi collegati fra loro da tante conne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e fasi principal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o: definisce l’area di competenza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zione: crea l’astrazione del prodotto, definendone l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: consolida la fase precedente, formalizzandolo tramite disegni e mo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zzazione: crea il prototipo e lo coll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zione:rilascia i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truzione di un iperte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log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ssi del legame ipert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reticolare dei contenuti (sequenziale, gerarchica, a griglia, a r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sequenzia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introduce i concetti del nodo successivo in modo 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sa quando si desidera eliminare i pericoli della dispersione nella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enta sequenza della consultazione può essere vivacizzata dalla possibilità di saltare alcuni n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gerarch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uo argomento può essere suddiviso in più argomenti secondo una gerarchia “ad alb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è facilitata dalla scelta dei percorsi che si diramano divenendo sempre più specif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grig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ntenuti possono essere scomposti secondo due crite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atifi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modo che ogni segmento possa essere visitato “in verti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ante  Tasso  Ve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O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7:10Z</dcterms:created>
  <dc:creator>Los Salseros</dc:creator>
  <dc:description/>
  <dc:language>en-US</dc:language>
  <cp:lastModifiedBy>Los Salseros</cp:lastModifiedBy>
  <dcterms:modified xsi:type="dcterms:W3CDTF">2007-05-26T00:18:54Z</dcterms:modified>
  <cp:revision>3</cp:revision>
  <dc:subject/>
  <dc:title>L’ ipertesto</dc:title>
</cp:coreProperties>
</file>